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17.jpeg" ContentType="image/jpeg"/>
  <Override PartName="/ppt/media/image3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5.jpeg" ContentType="image/jpeg"/>
  <Override PartName="/ppt/media/image35.jpeg" ContentType="image/jpeg"/>
  <Override PartName="/ppt/media/image36.png" ContentType="image/png"/>
  <Override PartName="/ppt/media/image37.jpeg" ContentType="image/jpeg"/>
  <Override PartName="/ppt/media/image41.jpeg" ContentType="image/jpeg"/>
  <Override PartName="/ppt/media/image45.jpeg" ContentType="image/jpeg"/>
  <Override PartName="/ppt/media/image44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30.jpeg" ContentType="image/jpeg"/>
  <Override PartName="/ppt/media/image46.jpeg" ContentType="image/jpeg"/>
  <Override PartName="/ppt/media/image51.jpeg" ContentType="image/jpeg"/>
  <Override PartName="/ppt/media/image34.jpeg" ContentType="image/jpeg"/>
  <Override PartName="/ppt/media/image20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32.jpeg" ContentType="image/jpeg"/>
  <Override PartName="/ppt/media/image31.jpeg" ContentType="image/jpeg"/>
  <Override PartName="/ppt/media/image12.png" ContentType="image/png"/>
  <Override PartName="/ppt/media/image13.png" ContentType="image/png"/>
  <Override PartName="/ppt/media/image54.jpeg" ContentType="image/jpeg"/>
  <Override PartName="/ppt/media/image53.wmf" ContentType="image/x-wmf"/>
  <Override PartName="/ppt/media/image39.jpeg" ContentType="image/jpeg"/>
  <Override PartName="/ppt/media/image8.png" ContentType="image/png"/>
  <Override PartName="/ppt/media/image18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668C-13A4-42CD-B1F2-59E2F3E3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Sunsc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ave of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slightly from the NanoSense web 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adi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radiation is often thought of as a wave with a wavelength (l) and frequency (f) related by thi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pueblo.gsa.gov/cic_text/health/sun_uv/sun-uv-yo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c (the speed of light) is constant,  the wavelength and frequency are inversely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eans that light with a short wavelength will have a high frequency and visa 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Comes in Packets (Phot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of an energy packet (E) is determined by the frequency of the radiation (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with a higher frequency has more energy in each p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energy in a packet determines how it interacts with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Ways to Think about Radi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relates not only to how much energy is in each packet but also to the total number of packets arriving at a given location (such as ou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epa.gov/sunwise/uvwhat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Energy depends on many factors including the intensity of sun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Index rates the total intensity of UV light for many locations in the US daily: http://www.epa.gov/sunwise/uv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kind of skin damage is determined by the size of the energy packet ( E = h x 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 spectrum is broken into three par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(UV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(UV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 (U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far as we know, visible and IR radiation don’t harm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energy radiation (UVC) is currently blocked by the ozone layer (ozone hole iss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radiation (UVB) does the most immediate damage (sunbur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lower energy radiation (UVA) can penetrate deeper into the skin, leading to long term da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Damag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adiation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th all of this possible damage, it pays to wear sunscreen, but which one should you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http://www.niehs.nih.gov/oc/factsheets/genes/home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nscreen Should You Use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llenge: 3 Essenti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egi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eveloped for soldiers in WWII (1940s) to block “sunburn causing ray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er wavelengths (more energy) called U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er wavelengths (less energy) called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were called UVB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II soldier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roducts using nanomaterials is growing very rapid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ing every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, food and beverages, sporting goods, coatings, cosmetics, personal c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: many use nano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abeled as containing nano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not labe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F 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F (Sunscreen Protection Factor)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s the strength of UVB protection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SPF # = more protection from UV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n’t tell you anything about protection from U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s first developed to prevent sunb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gredients were good UVB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ief History of Sunscreen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VA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A rays have no immediate visible effects but cause serious long term da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a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working to fin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fficial rating of UVA protection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cs.wright.edu/~agoshtas/fig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different skin cancer le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your sunscreen is a good UVA block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Sunscreen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th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ion has “in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lock UV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are “active ingredie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have more than one kind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V blocking agents suspended in a l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al suspens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kinds of activ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 and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c = Carb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ydrogen, oxygen &amp; nitrogen atoms are also often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valent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ist as individual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ar formula determine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ypical a few to several dozen Å (&lt;10 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s: http://www.3dchem.com/molecules.asp?ID=135# and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ctyl methoxycinnamate  (C18H26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 organic sunscreen ingred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pture the energy from UV r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jump to higher energy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is released as infrared rays which are harmless (each ray is low in energ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hf=2.48 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Absorption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molecules only absorb UV rays whose energy matches difference between electron energy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kinds of molecules have different peaks and ranges of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more than one kind of ingredient (molecule) gives broader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Ingredien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Ingredi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Ingredients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Range co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rganic ingredients that are currently used were selected because they are good UVB absor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DA has approved 15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screen makers are trying to develop organic ingredients that are good UVA bloc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benzone (also known as Parasol 1789) is a new FDA approved UVA bloc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inorganic sunscreen ingredients different from organic on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ight this affect the way they absorb UV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The Ba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 or 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at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uster of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unit doesn’t dictate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s with # of ions in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 nm – 3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TiO2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il of the ions in one clu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ttp://www.masspolicy.org/pdf/workshop/rejeski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: Cluster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organic ingredients come in different cluster sizes (sometimes called “particle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umber of ions can cluster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multiple of the formula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nO always has equal numbers of Zn and O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2 always has twice as many O as Ti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1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 Ingredients: UV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organics have a different absorption mechanism than organ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bsorb consistently through whole UV range up to ~380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ow is the absorption pattern different than for organ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ance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inorganic sunscreens have appear white on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don’t like how this looks, so they don’t use sunscreen with in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people who do use them, most apply too little to get full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4girls.gov/body/sunscree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Appear Whi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tional ZnO and TiO2 clusters are 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&gt; 2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clusters scatter visible ligh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00-700 n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ttered light is reflected to our eyes, appearing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Original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n’t organic sunscreen ingredients scatter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c Sunscreen Molecul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oo Small to Scatter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200 nm TiO2 partic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xycinna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norganic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gan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te that these images are not drawn to sc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and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go around small obsta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scatter all around from obstacles of sizes comparable to a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wave (ripple tank) simulation: http://www.falstad.com/rippl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loc.gov/rr/scitech/mysteries/images/sunscreen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sized Inorganic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scattering occurs for wavelengths twice as large as the clu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e clusters smaller (100 nm or less) and they won’t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Use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unprotected sun exposure leads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ature skin aging (e.g. wrink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-Sunscreen Appears Cl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cience.org.au/sats2003/images/barber-slide3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 Some Real Dat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sunscreens were tested for scattering with different wavelengths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nanosized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traditional inorganic ingredi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contains organic ingred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answer these three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is which and how do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ach one appear white or clear on your sk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ize (approximately) are the clusters in each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cattering by Three Sunscre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noparticle sunscreen ingredients are small inorganic clusters th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good UV protection by absorbing both UVB and UVA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ar clear on our skin because they are too small to scatter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smalltimes.com/images/st_advancednanotech_inside_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s: Time for 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most important factors to consider in choosing a sunscre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know if a sunscreen has “nano” ingredi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“nano” sunscreen ingredients differ from other ingredients currently used in sunscree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 Rates are Rising 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~50% of all cancer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&gt; 1 million cases diagnosed each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1 person to die every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getting skin canc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0 : 1 in 5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4 : 1 in 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50 : 1 in 10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s of the increa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e ozone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time i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d use of tanning b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un ray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emits several kinds of electromagnetic radiation: Visible (Vis), Infrared (IR) and Ultra Violet (U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kind is distinguished by a characteristic wavelength, frequency an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energy radiation can damage our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Energ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ll Electromagnetic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, Infrared and UV radiation are only part of the full spectrum of electromagnetic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’s Radiation Spect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3% is in the visible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49% is in the near infrare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7% is in the ultraviolet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 1% is x-rays, gamma waves, and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un’s radiation is UV, Vis &amp; IR 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6252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1400" y="160020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240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6252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1400" y="3964320"/>
            <a:ext cx="2607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609120"/>
            <a:ext cx="80992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74440" y="396432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74440" y="1600200"/>
            <a:ext cx="3952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964320"/>
            <a:ext cx="809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20520" y="39600"/>
          <a:ext cx="9123480" cy="679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39600"/>
                    <a:ext cx="9123480" cy="679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483400" y="279360"/>
            <a:ext cx="569880" cy="2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3366cc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20520" y="14400"/>
          <a:ext cx="9104400" cy="683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0"/>
                    <a:ext cx="9104400" cy="68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8"/>
          <p:cNvSpPr/>
          <p:nvPr/>
        </p:nvSpPr>
        <p:spPr>
          <a:xfrm>
            <a:off x="3006720" y="6470640"/>
            <a:ext cx="31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666666"/>
                </a:solidFill>
                <a:latin typeface="Verdana"/>
              </a:rPr>
              <a:t>Copyright © 2005 SRI International</a:t>
            </a:r>
            <a:endParaRPr b="0" lang="en-US" sz="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3366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epa.gov/sunwise/uvindex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falstad.com/ripple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43040" y="1562040"/>
            <a:ext cx="3962520" cy="11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Sunscree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040" y="2895120"/>
            <a:ext cx="3962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Wave of the Future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77760" y="482616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b4182b"/>
                </a:solidFill>
                <a:latin typeface="Arial"/>
              </a:rPr>
              <a:t>Modified slightly from the NanoSense web materials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4" name="Picture 18" descr="sun-in-box"/>
          <p:cNvPicPr/>
          <p:nvPr/>
        </p:nvPicPr>
        <p:blipFill>
          <a:blip r:embed="rId1"/>
          <a:stretch/>
        </p:blipFill>
        <p:spPr>
          <a:xfrm>
            <a:off x="5708520" y="1488960"/>
            <a:ext cx="2917800" cy="28130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is Radiatio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9200" y="1600200"/>
            <a:ext cx="5716800" cy="15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ight radiation is often thought of as a wave with a wavelength (</a:t>
            </a:r>
            <a:r>
              <a:rPr b="1" lang="en-US" sz="2400" spc="-1" strike="noStrike">
                <a:solidFill>
                  <a:srgbClr val="666666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) and frequency (f) related by this equation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pueblo.gsa.gov/cic_text/health/sun_uv/sun-uv-yo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96920" y="3959280"/>
            <a:ext cx="8485200" cy="19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nce c (the speed of light) is constant,  the wavelength and frequency are inversely related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is means that light with a short wavelength will have a high frequency and visa vers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53800" indent="-25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49720" indent="-211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9" name="Picture 20" descr="WaveEquationInverseForms"/>
          <p:cNvPicPr/>
          <p:nvPr/>
        </p:nvPicPr>
        <p:blipFill>
          <a:blip r:embed="rId2"/>
          <a:stretch/>
        </p:blipFill>
        <p:spPr>
          <a:xfrm>
            <a:off x="965160" y="4863960"/>
            <a:ext cx="4800600" cy="6858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1" descr="WaveEquationStandard"/>
          <p:cNvPicPr/>
          <p:nvPr/>
        </p:nvPicPr>
        <p:blipFill>
          <a:blip r:embed="rId3"/>
          <a:stretch/>
        </p:blipFill>
        <p:spPr>
          <a:xfrm>
            <a:off x="2436840" y="3098880"/>
            <a:ext cx="269712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09928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nergy Comes in Packets (Photon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size of an energy packet (E) is determined by the frequency of the radiation (f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grpSp>
        <p:nvGrpSpPr>
          <p:cNvPr id="144" name="Group 23"/>
          <p:cNvGrpSpPr/>
          <p:nvPr/>
        </p:nvGrpSpPr>
        <p:grpSpPr>
          <a:xfrm>
            <a:off x="4546440" y="3873600"/>
            <a:ext cx="3657600" cy="2529360"/>
            <a:chOff x="4546440" y="3873600"/>
            <a:chExt cx="3657600" cy="2529360"/>
          </a:xfrm>
        </p:grpSpPr>
        <p:sp>
          <p:nvSpPr>
            <p:cNvPr id="145" name="Line 12"/>
            <p:cNvSpPr/>
            <p:nvPr/>
          </p:nvSpPr>
          <p:spPr>
            <a:xfrm>
              <a:off x="5419800" y="3890880"/>
              <a:ext cx="0" cy="2298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5159520" y="5978520"/>
              <a:ext cx="2516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7" name="Line 14"/>
            <p:cNvSpPr/>
            <p:nvPr/>
          </p:nvSpPr>
          <p:spPr>
            <a:xfrm flipV="1">
              <a:off x="5425920" y="4202280"/>
              <a:ext cx="2014560" cy="176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8" name="Text Box 15"/>
            <p:cNvSpPr/>
            <p:nvPr/>
          </p:nvSpPr>
          <p:spPr>
            <a:xfrm>
              <a:off x="5805360" y="3957480"/>
              <a:ext cx="191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 </a:t>
              </a:r>
              <a:r>
                <a:rPr b="1" lang="en-US" sz="20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</a:t>
              </a: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 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49" name="Text Box 16"/>
            <p:cNvSpPr/>
            <p:nvPr/>
          </p:nvSpPr>
          <p:spPr>
            <a:xfrm>
              <a:off x="4546440" y="3873600"/>
              <a:ext cx="120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150" name="Text Box 17"/>
            <p:cNvSpPr/>
            <p:nvPr/>
          </p:nvSpPr>
          <p:spPr>
            <a:xfrm>
              <a:off x="7062840" y="6004080"/>
              <a:ext cx="1141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sp>
        <p:nvSpPr>
          <p:cNvPr id="151" name="Rectangle 21"/>
          <p:cNvSpPr/>
          <p:nvPr/>
        </p:nvSpPr>
        <p:spPr>
          <a:xfrm>
            <a:off x="324000" y="3809880"/>
            <a:ext cx="4535280" cy="28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Radiation with a higher frequency has more energy in each packe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amount of energy in a packet determines how it interacts with our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2" name="Picture 24" descr="EnergyEquationStandard"/>
          <p:cNvPicPr/>
          <p:nvPr/>
        </p:nvPicPr>
        <p:blipFill>
          <a:blip r:embed="rId1"/>
          <a:stretch/>
        </p:blipFill>
        <p:spPr>
          <a:xfrm>
            <a:off x="2784600" y="3044880"/>
            <a:ext cx="2539800" cy="5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66"/>
                </a:solidFill>
                <a:latin typeface="Tahoma"/>
              </a:rPr>
              <a:t>Two Ways to Think about Radiation Energy</a:t>
            </a: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00200"/>
            <a:ext cx="8607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tal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is relates not only to how much energy is in each packet but also to the total number of packets arriving at a given location (such as our skin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2600" y="6597720"/>
            <a:ext cx="6851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epa.gov/sunwise/uvwhat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57" name="Picture 15" descr="UVIndex"/>
          <p:cNvPicPr/>
          <p:nvPr/>
        </p:nvPicPr>
        <p:blipFill>
          <a:blip r:embed="rId1"/>
          <a:stretch/>
        </p:blipFill>
        <p:spPr>
          <a:xfrm>
            <a:off x="552600" y="3389400"/>
            <a:ext cx="2216160" cy="25779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6"/>
          <p:cNvSpPr/>
          <p:nvPr/>
        </p:nvSpPr>
        <p:spPr>
          <a:xfrm>
            <a:off x="2521080" y="3238560"/>
            <a:ext cx="62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otal Energy depends on many factors including the intensity of sun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UV Index rates the total intensity of UV light for many locations in the US daily: </a:t>
            </a:r>
            <a:r>
              <a:rPr b="0" lang="en-US" sz="2000" spc="-1" strike="noStrike" u="sng">
                <a:solidFill>
                  <a:srgbClr val="46b817"/>
                </a:solidFill>
                <a:uFillTx/>
                <a:latin typeface="Tahoma"/>
                <a:hlinkClick r:id="rId2"/>
              </a:rPr>
              <a:t>http://www.epa.gov/sunwise/uvindex.html</a:t>
            </a: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kind of skin damage is determined by the size of the energy packet ( E = h x f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UV spectrum is broken into three parts: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ery High Energy (UVC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 Energy (UVB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w Energy (UVA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62" name="Picture 13" descr="SunEMSpectrumNoNums"/>
          <p:cNvPicPr/>
          <p:nvPr/>
        </p:nvPicPr>
        <p:blipFill>
          <a:blip r:embed="rId1"/>
          <a:stretch/>
        </p:blipFill>
        <p:spPr>
          <a:xfrm>
            <a:off x="4567320" y="2949480"/>
            <a:ext cx="3887640" cy="19702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4"/>
          <p:cNvSpPr/>
          <p:nvPr/>
        </p:nvSpPr>
        <p:spPr>
          <a:xfrm>
            <a:off x="4439160" y="496404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5" name="Rectangle 17"/>
          <p:cNvSpPr/>
          <p:nvPr/>
        </p:nvSpPr>
        <p:spPr>
          <a:xfrm>
            <a:off x="361800" y="3848040"/>
            <a:ext cx="406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s far as we know, visible and IR radiation don’t harm the ski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4260960" y="1419120"/>
            <a:ext cx="450684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ery high energy radiation (UVC) is currently blocked by the ozone layer (ozone hole issue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 energy radiation (UVB) does the most immediate damage (sunburns)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But lower energy radiation (UVA) can penetrate deeper into the skin, leading to long term damag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-25560" y="6453360"/>
            <a:ext cx="8158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N.A. Shaath. The Chemistry of Sunscreens. In: Lowe NJ, Shaath NA, Pathak MA, editors. Sunscreens, development, evaluation, and regulatory aspects. New York: Marcel Dekker; 1997. p. 263-283.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Damage II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70" name="Picture 9" descr="SkinDepth"/>
          <p:cNvPicPr/>
          <p:nvPr/>
        </p:nvPicPr>
        <p:blipFill>
          <a:blip r:embed="rId1"/>
          <a:stretch/>
        </p:blipFill>
        <p:spPr>
          <a:xfrm>
            <a:off x="352440" y="1555920"/>
            <a:ext cx="3854520" cy="47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20760" y="1584360"/>
          <a:ext cx="8183520" cy="5014800"/>
        </p:xfrm>
        <a:graphic>
          <a:graphicData uri="http://schemas.openxmlformats.org/drawingml/2006/table">
            <a:tbl>
              <a:tblPr/>
              <a:tblGrid>
                <a:gridCol w="1081080"/>
                <a:gridCol w="1670040"/>
                <a:gridCol w="1585800"/>
                <a:gridCol w="1590840"/>
                <a:gridCol w="1371600"/>
                <a:gridCol w="884160"/>
              </a:tblGrid>
              <a:tr h="960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yp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Characteristic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Wavelength (</a:t>
                      </a: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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nergy per Phot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% of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otal Radiation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Reaching Earth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Effects on Human Ski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Visible to Human Eye?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6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C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00-29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Short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High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0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&lt;1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B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290-32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Mid-rang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Medium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.3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5% of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all UV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unbur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UVA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320-400 nm   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Long-wave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Low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6.5% 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(95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% of all UV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Tann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Aging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DNA Damag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Skin Cance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Vi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00-7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r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  <a:ea typeface="Times New Roman"/>
                        </a:rPr>
                        <a:t>~43 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ne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Currently Know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Yes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IR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700-120,000 nm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Lowest Energy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~49%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Heat Sensation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(high 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 IR)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666666"/>
                          </a:solidFill>
                          <a:latin typeface="Tahoma"/>
                        </a:rPr>
                        <a:t>No</a:t>
                      </a:r>
                      <a:endParaRPr b="0" lang="en-US" sz="1400" spc="-1" strike="noStrike">
                        <a:solidFill>
                          <a:srgbClr val="66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un Radiation Summary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4" name="AutoShape 54"/>
          <p:cNvSpPr/>
          <p:nvPr/>
        </p:nvSpPr>
        <p:spPr>
          <a:xfrm>
            <a:off x="3075120" y="2189160"/>
            <a:ext cx="1555560" cy="4518000"/>
          </a:xfrm>
          <a:prstGeom prst="upArrow">
            <a:avLst>
              <a:gd name="adj1" fmla="val 49796"/>
              <a:gd name="adj2" fmla="val 45153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nergy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5" name="AutoShape 55"/>
          <p:cNvSpPr/>
          <p:nvPr/>
        </p:nvSpPr>
        <p:spPr>
          <a:xfrm flipV="1">
            <a:off x="1450800" y="2550960"/>
            <a:ext cx="1641600" cy="4307040"/>
          </a:xfrm>
          <a:prstGeom prst="upArrow">
            <a:avLst>
              <a:gd name="adj1" fmla="val 48167"/>
              <a:gd name="adj2" fmla="val 44384"/>
            </a:avLst>
          </a:prstGeom>
          <a:solidFill>
            <a:srgbClr val="3366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ncreasing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avelength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17520" y="1638360"/>
            <a:ext cx="8089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With all of this possible damage, it pays to wear sunscreen, but which one should you use?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79" name="Picture 6" descr="muscles"/>
          <p:cNvPicPr/>
          <p:nvPr/>
        </p:nvPicPr>
        <p:blipFill>
          <a:blip r:embed="rId1"/>
          <a:stretch/>
        </p:blipFill>
        <p:spPr>
          <a:xfrm>
            <a:off x="3005280" y="3548160"/>
            <a:ext cx="2473200" cy="27352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-25560" y="6593040"/>
            <a:ext cx="8158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niehs.nih.gov/oc/factsheets/genes/home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82" name="Picture 16" descr="SunscreenProductRange"/>
          <p:cNvPicPr/>
          <p:nvPr/>
        </p:nvPicPr>
        <p:blipFill>
          <a:blip r:embed="rId1"/>
          <a:stretch/>
        </p:blipFill>
        <p:spPr>
          <a:xfrm>
            <a:off x="1835280" y="1828800"/>
            <a:ext cx="5244840" cy="3809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ich Sunscreen Should You Use??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84" name="Picture 17" descr="SunscreenForYourSunDay"/>
          <p:cNvPicPr/>
          <p:nvPr/>
        </p:nvPicPr>
        <p:blipFill>
          <a:blip r:embed="rId2"/>
          <a:stretch/>
        </p:blipFill>
        <p:spPr>
          <a:xfrm>
            <a:off x="6381720" y="2427120"/>
            <a:ext cx="1866960" cy="4233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ManyCoppertone"/>
          <p:cNvPicPr/>
          <p:nvPr/>
        </p:nvPicPr>
        <p:blipFill>
          <a:blip r:embed="rId3"/>
          <a:stretch/>
        </p:blipFill>
        <p:spPr>
          <a:xfrm>
            <a:off x="318960" y="1535040"/>
            <a:ext cx="2156040" cy="195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SunSunscreen"/>
          <p:cNvPicPr/>
          <p:nvPr/>
        </p:nvPicPr>
        <p:blipFill>
          <a:blip r:embed="rId4"/>
          <a:stretch/>
        </p:blipFill>
        <p:spPr>
          <a:xfrm>
            <a:off x="0" y="3882960"/>
            <a:ext cx="2955960" cy="31924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0" descr="SunSport2"/>
          <p:cNvPicPr/>
          <p:nvPr/>
        </p:nvPicPr>
        <p:blipFill>
          <a:blip r:embed="rId5"/>
          <a:stretch/>
        </p:blipFill>
        <p:spPr>
          <a:xfrm>
            <a:off x="7677000" y="1535040"/>
            <a:ext cx="1190880" cy="2959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1" descr="SunscreenGlow"/>
          <p:cNvPicPr/>
          <p:nvPr/>
        </p:nvPicPr>
        <p:blipFill>
          <a:blip r:embed="rId6"/>
          <a:stretch/>
        </p:blipFill>
        <p:spPr>
          <a:xfrm>
            <a:off x="4280040" y="3619440"/>
            <a:ext cx="2908080" cy="29084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-279360" y="17413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and Improved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0" name="Text Box 13"/>
          <p:cNvSpPr/>
          <p:nvPr/>
        </p:nvSpPr>
        <p:spPr>
          <a:xfrm>
            <a:off x="3701880" y="247320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w with Nano-Z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0" y="53006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F 50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2049480" y="587844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es on Clear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3622680" y="4511520"/>
            <a:ext cx="60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fe for Childre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4680" y="3706920"/>
            <a:ext cx="60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roadband Protection</a:t>
            </a:r>
            <a:endParaRPr b="0" lang="en-US" sz="3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Challenge: 3 Essential Questio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-19080" y="6423120"/>
            <a:ext cx="8766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bbc.co.uk/wiltshire/content/articles/2005/05/05/peoples_war_feature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                </a:t>
            </a: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http://www.arpansa.gov.au/is_sunys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Beginn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4000" y="1619280"/>
            <a:ext cx="4908240" cy="12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First developed for soldiers in WWII (1940s) to block “sunburn causing ray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-122400" y="5533920"/>
            <a:ext cx="44960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horter wavelengths (more energy) called UVC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3" name="Picture 6" descr="UVSpectrum"/>
          <p:cNvPicPr/>
          <p:nvPr/>
        </p:nvPicPr>
        <p:blipFill>
          <a:blip r:embed="rId1"/>
          <a:stretch/>
        </p:blipFill>
        <p:spPr>
          <a:xfrm>
            <a:off x="3073320" y="3592440"/>
            <a:ext cx="2475000" cy="1900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4011480" y="5533920"/>
            <a:ext cx="427356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Longer wavelengths (less energy) called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4307040" y="3328920"/>
            <a:ext cx="15840" cy="441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 flipV="1">
            <a:off x="5241600" y="456084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V="1">
            <a:off x="1465200" y="4599000"/>
            <a:ext cx="1770120" cy="10224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63600" y="2919240"/>
            <a:ext cx="40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se were called UVB ray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09" name="Picture 12" descr="WWIINEw"/>
          <p:cNvPicPr/>
          <p:nvPr/>
        </p:nvPicPr>
        <p:blipFill>
          <a:blip r:embed="rId2"/>
          <a:stretch/>
        </p:blipFill>
        <p:spPr>
          <a:xfrm>
            <a:off x="5796000" y="1598760"/>
            <a:ext cx="2577960" cy="1930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13"/>
          <p:cNvSpPr/>
          <p:nvPr/>
        </p:nvSpPr>
        <p:spPr>
          <a:xfrm>
            <a:off x="5838840" y="3639960"/>
            <a:ext cx="24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WII soldier in the sun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 Produc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umber of products using nanomaterials is growing very rapidl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ubling every year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othing, food and beverages, sporting goods, coatings, cosmetics, personal ca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: many use nanomateria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labeled as containing nanopartic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ome not label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34920" y="6435720"/>
            <a:ext cx="612612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shop.beautysurg.com/ProductImages/skincare/14521.jpg and   http://www.shop.beautysurg.com/ProductImages/skincare/14520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PF Rating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2637000"/>
            <a:ext cx="45878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PF (Sunscreen Protection Factor) Number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easures the strength of UVB protection only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igher SPF # = more protection from UVB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esn’t tell you anything about protection from UVA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438120" y="1589040"/>
            <a:ext cx="844092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s first developed to prevent sunbur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gredients were good UVB block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19" name="Picture 9" descr="solBar30"/>
          <p:cNvPicPr/>
          <p:nvPr/>
        </p:nvPicPr>
        <p:blipFill>
          <a:blip r:embed="rId4"/>
          <a:stretch/>
        </p:blipFill>
        <p:spPr>
          <a:xfrm>
            <a:off x="6680160" y="1973160"/>
            <a:ext cx="1928880" cy="3857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solBar50"/>
          <p:cNvPicPr/>
          <p:nvPr/>
        </p:nvPicPr>
        <p:blipFill>
          <a:blip r:embed="rId5"/>
          <a:stretch/>
        </p:blipFill>
        <p:spPr>
          <a:xfrm>
            <a:off x="5265720" y="2809800"/>
            <a:ext cx="1946160" cy="38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 Brief History of Sunscreen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UVA Proble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46749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A rays have no immediate visible effects but cause serious long term damag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nc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Skin aging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working to fin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No official rating of UVA protection ye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-792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cs.wright.edu/~agoshtas/fig8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5" name="Picture 5" descr="SkinCancer"/>
          <p:cNvPicPr/>
          <p:nvPr/>
        </p:nvPicPr>
        <p:blipFill>
          <a:blip r:embed="rId1"/>
          <a:stretch/>
        </p:blipFill>
        <p:spPr>
          <a:xfrm>
            <a:off x="4826160" y="2230560"/>
            <a:ext cx="3566880" cy="285408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4921200" y="5276880"/>
            <a:ext cx="33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enty different skin cancer lesion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28" name="Picture 2" descr="va_beach2"/>
          <p:cNvPicPr/>
          <p:nvPr/>
        </p:nvPicPr>
        <p:blipFill>
          <a:blip r:embed="rId1"/>
          <a:stretch/>
        </p:blipFill>
        <p:spPr>
          <a:xfrm>
            <a:off x="1800360" y="2982960"/>
            <a:ext cx="5600520" cy="34592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3"/>
          <p:cNvSpPr/>
          <p:nvPr/>
        </p:nvSpPr>
        <p:spPr>
          <a:xfrm>
            <a:off x="0" y="15318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Tahoma"/>
              </a:rPr>
              <a:t>How do you know if your sunscreen is a good UVA blocker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Know Your Sunscreen: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ook at the Ingredient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4000" y="2666880"/>
            <a:ext cx="4327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otion has “in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on’t block UV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are “active ingredients”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ually have more than one kind presen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20600" y="6550200"/>
            <a:ext cx="6226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6" name="AutoShape 7"/>
          <p:cNvSpPr/>
          <p:nvPr/>
        </p:nvSpPr>
        <p:spPr>
          <a:xfrm>
            <a:off x="324000" y="1658880"/>
            <a:ext cx="8277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UV blocking agents suspended in a lo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lloidal suspension”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wo kinds of active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rganic ingredients and inorganic ingredient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7" name="Picture 8" descr="SunscreenCloseUpWithKey"/>
          <p:cNvPicPr/>
          <p:nvPr/>
        </p:nvPicPr>
        <p:blipFill>
          <a:blip r:embed="rId3"/>
          <a:stretch/>
        </p:blipFill>
        <p:spPr>
          <a:xfrm>
            <a:off x="4576680" y="2298600"/>
            <a:ext cx="3935520" cy="31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39" name="Picture 2" descr="methoxycinnamatesolo"/>
          <p:cNvPicPr/>
          <p:nvPr/>
        </p:nvPicPr>
        <p:blipFill>
          <a:blip r:embed="rId1"/>
          <a:stretch/>
        </p:blipFill>
        <p:spPr>
          <a:xfrm>
            <a:off x="5494320" y="2308320"/>
            <a:ext cx="2800440" cy="21556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09160" y="1731960"/>
            <a:ext cx="514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= Carbon Atom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ydrogen, oxygen &amp; nitrogen atoms are also often involved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ovalent bond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Exist as individual molecule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olecular formula determines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ypical a few to several dozen Å (&lt;10 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0" y="6597720"/>
            <a:ext cx="8886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s: http://www.3dchem.com/molecules.asp?ID=135# and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43" name="Picture 6" descr="SunscreenCloseUp"/>
          <p:cNvPicPr/>
          <p:nvPr/>
        </p:nvPicPr>
        <p:blipFill>
          <a:blip r:embed="rId2"/>
          <a:stretch/>
        </p:blipFill>
        <p:spPr>
          <a:xfrm>
            <a:off x="5605560" y="4910040"/>
            <a:ext cx="2431800" cy="171144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5156280" y="2357280"/>
            <a:ext cx="3301920" cy="250200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5" name="Line 8"/>
          <p:cNvSpPr/>
          <p:nvPr/>
        </p:nvSpPr>
        <p:spPr>
          <a:xfrm flipH="1" flipV="1">
            <a:off x="5829480" y="4624560"/>
            <a:ext cx="1536480" cy="596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7402680" y="4206960"/>
            <a:ext cx="860400" cy="1014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7" name="Oval 10"/>
          <p:cNvSpPr/>
          <p:nvPr/>
        </p:nvSpPr>
        <p:spPr>
          <a:xfrm flipH="1">
            <a:off x="7300800" y="5108400"/>
            <a:ext cx="139680" cy="1065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28800" bIns="28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5284800" y="1700280"/>
            <a:ext cx="32716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tyl methoxycinnamate  (C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18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26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800" spc="-1" strike="noStrike" baseline="-25000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n organic sunscreen ingredient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00" y="609120"/>
            <a:ext cx="8880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59920" y="1689120"/>
            <a:ext cx="369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lectrons capture the energy from UV ray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y jump to higher energy level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energy is released as infrared rays which are harmless (each ray is low in energy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6597720"/>
            <a:ext cx="84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3dchem.com/molecules.asp?ID=135#and http://members.aol.com/WSRNet/tut/absorbu.htm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53" name="Picture 5" descr="OrganicAbsorptionEmission"/>
          <p:cNvPicPr/>
          <p:nvPr/>
        </p:nvPicPr>
        <p:blipFill>
          <a:blip r:embed="rId1"/>
          <a:stretch/>
        </p:blipFill>
        <p:spPr>
          <a:xfrm>
            <a:off x="3790800" y="1557360"/>
            <a:ext cx="5203800" cy="30733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EnergyLevelOnly"/>
          <p:cNvPicPr/>
          <p:nvPr/>
        </p:nvPicPr>
        <p:blipFill>
          <a:blip r:embed="rId2"/>
          <a:stretch/>
        </p:blipFill>
        <p:spPr>
          <a:xfrm>
            <a:off x="5322960" y="4749840"/>
            <a:ext cx="2192400" cy="1476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7"/>
          <p:cNvSpPr/>
          <p:nvPr/>
        </p:nvSpPr>
        <p:spPr>
          <a:xfrm>
            <a:off x="3631680" y="3819600"/>
            <a:ext cx="110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7627320" y="3819600"/>
            <a:ext cx="121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hf=2.48 eV</a:t>
            </a:r>
            <a:endParaRPr b="0" lang="en-US" sz="16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9520" y="609120"/>
            <a:ext cx="8336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Absorption Rang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rganic molecules only absorb UV rays whose energy matches difference between electron energy levels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kinds of molecules have different peaks and ranges of absorp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Using more than one kind of ingredient (molecule) gives broader prote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60" name="Picture 4" descr="OrganicsGraph3"/>
          <p:cNvPicPr/>
          <p:nvPr/>
        </p:nvPicPr>
        <p:blipFill>
          <a:blip r:embed="rId1"/>
          <a:stretch/>
        </p:blipFill>
        <p:spPr>
          <a:xfrm>
            <a:off x="597852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OrganicsGraph1"/>
          <p:cNvPicPr/>
          <p:nvPr/>
        </p:nvPicPr>
        <p:blipFill>
          <a:blip r:embed="rId2"/>
          <a:stretch/>
        </p:blipFill>
        <p:spPr>
          <a:xfrm>
            <a:off x="403200" y="4384800"/>
            <a:ext cx="2232000" cy="178596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OrganicsGraph2"/>
          <p:cNvPicPr/>
          <p:nvPr/>
        </p:nvPicPr>
        <p:blipFill>
          <a:blip r:embed="rId3"/>
          <a:stretch/>
        </p:blipFill>
        <p:spPr>
          <a:xfrm>
            <a:off x="3191040" y="43848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7"/>
          <p:cNvSpPr/>
          <p:nvPr/>
        </p:nvSpPr>
        <p:spPr>
          <a:xfrm>
            <a:off x="868680" y="6234120"/>
            <a:ext cx="70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ne Ingredient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wo Ingredients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hree Ingredient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s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66" name="Picture 2" descr="Avobezone"/>
          <p:cNvPicPr/>
          <p:nvPr/>
        </p:nvPicPr>
        <p:blipFill>
          <a:blip r:embed="rId1"/>
          <a:stretch/>
        </p:blipFill>
        <p:spPr>
          <a:xfrm>
            <a:off x="3602160" y="4492800"/>
            <a:ext cx="4533840" cy="2155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Ingredients: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bsorption Range cont.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rganic ingredients that are currently used were selected because they are good UVB absorb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The FDA has approved 15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screen makers are trying to develop organic ingredients that are good UVA blocker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vobenzone (also known as Parasol 1789) is a new FDA approved UVA block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jchemed.chem.wisc.edu/JCEWWW/Features/MonthlyMolecules/2004/Oct/JCE2004p1491fig4.gif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380880" y="1987560"/>
            <a:ext cx="833148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are inorganic sunscreen ingredients different from organic ones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How might this affect the way they absorb UV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The Basic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525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toms Involved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Zinc or Titaniu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xyge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tructur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onic attraction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luster of ion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Formula unit doesn’t dictate size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ize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Varies with # of ions in clust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10 nm – 300 nm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311040" y="1778040"/>
            <a:ext cx="4442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0" y="6426360"/>
            <a:ext cx="8585280" cy="9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microspheres-nanospheres.com/Images/Titania/TIO2%20P7.jpg and image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77" name="Picture 6" descr="TiO2-Balls"/>
          <p:cNvPicPr/>
          <p:nvPr/>
        </p:nvPicPr>
        <p:blipFill>
          <a:blip r:embed="rId1"/>
          <a:stretch/>
        </p:blipFill>
        <p:spPr>
          <a:xfrm>
            <a:off x="5423040" y="3924360"/>
            <a:ext cx="2373120" cy="1663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TiO2-ball-www-cse-clrc-ac-uk"/>
          <p:cNvPicPr/>
          <p:nvPr/>
        </p:nvPicPr>
        <p:blipFill>
          <a:blip r:embed="rId2"/>
          <a:stretch/>
        </p:blipFill>
        <p:spPr>
          <a:xfrm>
            <a:off x="5203800" y="1805040"/>
            <a:ext cx="1390680" cy="1322280"/>
          </a:xfrm>
          <a:prstGeom prst="rect">
            <a:avLst/>
          </a:prstGeom>
          <a:ln w="0">
            <a:noFill/>
          </a:ln>
        </p:spPr>
      </p:pic>
      <p:sp>
        <p:nvSpPr>
          <p:cNvPr id="279" name="Oval 8"/>
          <p:cNvSpPr/>
          <p:nvPr/>
        </p:nvSpPr>
        <p:spPr>
          <a:xfrm>
            <a:off x="6045120" y="4057560"/>
            <a:ext cx="393840" cy="39384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5067360" y="1619280"/>
            <a:ext cx="1676520" cy="1676520"/>
          </a:xfrm>
          <a:prstGeom prst="ellipse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1" name="Line 10"/>
          <p:cNvSpPr/>
          <p:nvPr/>
        </p:nvSpPr>
        <p:spPr>
          <a:xfrm flipH="1" flipV="1">
            <a:off x="5283360" y="3016080"/>
            <a:ext cx="761760" cy="1168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V="1">
            <a:off x="6438960" y="2760840"/>
            <a:ext cx="257040" cy="145872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5584320" y="5945040"/>
            <a:ext cx="201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Group of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s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751800" y="1897200"/>
            <a:ext cx="17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etail of the ions in one cluster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3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5889600" y="2975040"/>
            <a:ext cx="300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ttp://www.masspolicy.org/pdf/workshop/rejeski.pdf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Cluster Size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 ingredients come in different cluster sizes (sometimes called “particles”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ifferent number of ions can cluster together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ust be a multiple of the formula uni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ZnO always has equal numbers of Zn and O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66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TiO</a:t>
            </a:r>
            <a:r>
              <a:rPr b="0" lang="en-US" sz="20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666666"/>
                </a:solidFill>
                <a:latin typeface="Tahoma"/>
              </a:rPr>
              <a:t>always has twice as many O as Ti atoms</a:t>
            </a:r>
            <a:endParaRPr b="0" lang="en-US" sz="20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288" name="Picture 4" descr="TiO2-ball-www-cse-clrc-ac-uk"/>
          <p:cNvPicPr/>
          <p:nvPr/>
        </p:nvPicPr>
        <p:blipFill>
          <a:blip r:embed="rId1"/>
          <a:stretch/>
        </p:blipFill>
        <p:spPr>
          <a:xfrm>
            <a:off x="4721400" y="3956040"/>
            <a:ext cx="2573280" cy="2446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TiO2-ball-small"/>
          <p:cNvPicPr/>
          <p:nvPr/>
        </p:nvPicPr>
        <p:blipFill>
          <a:blip r:embed="rId2"/>
          <a:stretch/>
        </p:blipFill>
        <p:spPr>
          <a:xfrm>
            <a:off x="1576440" y="4267080"/>
            <a:ext cx="1608120" cy="1589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1555560" y="6202440"/>
            <a:ext cx="55371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100 nm TiO2 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0" y="660096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organic Ingredients: UV Absorption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3640" y="1790280"/>
            <a:ext cx="3695400" cy="31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Inorganics have a different absorption mechanism than organic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Absorb consistently through whole UV range up to ~380nm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is the absorption pattern different than for organic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01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77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11040" y="5305320"/>
            <a:ext cx="7523280" cy="43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296" name="Picture 5" descr="InorganicsGraph"/>
          <p:cNvPicPr/>
          <p:nvPr/>
        </p:nvPicPr>
        <p:blipFill>
          <a:blip r:embed="rId1"/>
          <a:stretch/>
        </p:blipFill>
        <p:spPr>
          <a:xfrm>
            <a:off x="4079880" y="2046240"/>
            <a:ext cx="4476600" cy="3581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6"/>
          <p:cNvSpPr/>
          <p:nvPr/>
        </p:nvSpPr>
        <p:spPr>
          <a:xfrm>
            <a:off x="0" y="6597720"/>
            <a:ext cx="85852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9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If inorganic sunscreen ingredients block UVA light, why doesn’t everybody use them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0" name="Picture 3" descr="sunscreen2"/>
          <p:cNvPicPr/>
          <p:nvPr/>
        </p:nvPicPr>
        <p:blipFill>
          <a:blip r:embed="rId1"/>
          <a:stretch/>
        </p:blipFill>
        <p:spPr>
          <a:xfrm>
            <a:off x="2914560" y="36910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4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66"/>
                </a:solidFill>
                <a:latin typeface="Tahoma"/>
              </a:rPr>
              <a:t>Appearance Matters</a:t>
            </a:r>
            <a:endParaRPr b="1" lang="en-US" sz="3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660840" y="1600200"/>
            <a:ext cx="4627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inorganic sunscreens have appear white on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ny people don’t like how this looks, so they don’t use sunscreen with inorganic ingredient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Of the people who do use them, most apply too little to get full protec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75400"/>
            <a:ext cx="854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4girls.gov/body/sunscreen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353880" y="1677960"/>
            <a:ext cx="3149640" cy="477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Do They Appear White? 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81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raditional ZnO and TiO</a:t>
            </a:r>
            <a:r>
              <a:rPr b="1" lang="en-US" sz="2400" spc="-1" strike="noStrike" baseline="-25000">
                <a:solidFill>
                  <a:srgbClr val="666666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lusters are lar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&gt; 200nm)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Large clusters scatter visible light 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(400-700 nm)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cattered light is reflected to our eyes, appearing whit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0" name="Picture 4" descr="Scatter"/>
          <p:cNvPicPr/>
          <p:nvPr/>
        </p:nvPicPr>
        <p:blipFill>
          <a:blip r:embed="rId1"/>
          <a:stretch/>
        </p:blipFill>
        <p:spPr>
          <a:xfrm>
            <a:off x="5089680" y="2257560"/>
            <a:ext cx="3714480" cy="34383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Original image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380880" y="1544760"/>
            <a:ext cx="833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y don’t organic sunscreen ingredients scatter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15" name="Picture 4" descr="ManNoSunscreen"/>
          <p:cNvPicPr/>
          <p:nvPr/>
        </p:nvPicPr>
        <p:blipFill>
          <a:blip r:embed="rId1"/>
          <a:stretch/>
        </p:blipFill>
        <p:spPr>
          <a:xfrm>
            <a:off x="3060720" y="3352680"/>
            <a:ext cx="3263760" cy="243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Organic Sunscreen Molecules </a:t>
            </a:r>
            <a:br>
              <a:rPr sz="3200"/>
            </a:b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are Too Small to Scatter Ligh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18" name="Picture 3" descr="methoxycinnamatesolo"/>
          <p:cNvPicPr/>
          <p:nvPr/>
        </p:nvPicPr>
        <p:blipFill>
          <a:blip r:embed="rId1"/>
          <a:stretch/>
        </p:blipFill>
        <p:spPr>
          <a:xfrm>
            <a:off x="6705720" y="3544920"/>
            <a:ext cx="133200" cy="103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TiO2-ball-www-cse-clrc-ac-uk"/>
          <p:cNvPicPr/>
          <p:nvPr/>
        </p:nvPicPr>
        <p:blipFill>
          <a:blip r:embed="rId2"/>
          <a:stretch/>
        </p:blipFill>
        <p:spPr>
          <a:xfrm>
            <a:off x="598320" y="1479600"/>
            <a:ext cx="4240440" cy="40305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1454400" y="5319720"/>
            <a:ext cx="63162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~200 nm TiO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2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ticle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thoxycinnamate 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Inorganic)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Organic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(Note that these images are not drawn to scale)</a:t>
            </a:r>
            <a:endParaRPr b="0" lang="en-US" sz="1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0" y="6597720"/>
            <a:ext cx="8585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Images adapted from http://www.cse.clrc.ac.uk/msi/projects/ropa.shtml and http://www.3dchem.com/molecules.asp?ID=135# 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2" name="Line 7"/>
          <p:cNvSpPr/>
          <p:nvPr/>
        </p:nvSpPr>
        <p:spPr>
          <a:xfrm flipV="1">
            <a:off x="6786720" y="3687480"/>
            <a:ext cx="0" cy="1592280"/>
          </a:xfrm>
          <a:prstGeom prst="line">
            <a:avLst/>
          </a:prstGeom>
          <a:ln w="28440">
            <a:solidFill>
              <a:srgbClr val="000066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aves and obstacle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go around small obstacl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ves scatter all around from obstacles of sizes comparable to a wavelength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ater wave (ripple tank) simulation: </a:t>
            </a:r>
            <a:r>
              <a:rPr b="1" lang="en-US" sz="2400" spc="-1" strike="noStrike" u="sng">
                <a:solidFill>
                  <a:srgbClr val="46b817"/>
                </a:solidFill>
                <a:uFillTx/>
                <a:latin typeface="Tahoma"/>
                <a:hlinkClick r:id="rId1"/>
              </a:rPr>
              <a:t>http://www.falstad.com/ripple/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7" name="Text Box 2"/>
          <p:cNvSpPr/>
          <p:nvPr/>
        </p:nvSpPr>
        <p:spPr>
          <a:xfrm>
            <a:off x="380880" y="1544760"/>
            <a:ext cx="833148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66"/>
                </a:solidFill>
                <a:latin typeface="Arial"/>
              </a:rPr>
              <a:t>What could we do to inorganic clusters to prevent them from scattering visible light?</a:t>
            </a: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575400"/>
            <a:ext cx="854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Adapted from http://www.loc.gov/rr/scitech/mysteries/images/sunscreen2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29" name="Picture 4" descr="sunscreen2"/>
          <p:cNvPicPr/>
          <p:nvPr/>
        </p:nvPicPr>
        <p:blipFill>
          <a:blip r:embed="rId1"/>
          <a:stretch/>
        </p:blipFill>
        <p:spPr>
          <a:xfrm>
            <a:off x="620640" y="3649680"/>
            <a:ext cx="3264120" cy="2430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ManNoSunscreen"/>
          <p:cNvPicPr/>
          <p:nvPr/>
        </p:nvPicPr>
        <p:blipFill>
          <a:blip r:embed="rId2"/>
          <a:stretch/>
        </p:blipFill>
        <p:spPr>
          <a:xfrm>
            <a:off x="4886280" y="3649680"/>
            <a:ext cx="3264120" cy="2430360"/>
          </a:xfrm>
          <a:prstGeom prst="rect">
            <a:avLst/>
          </a:prstGeom>
          <a:ln w="0">
            <a:noFill/>
          </a:ln>
        </p:spPr>
      </p:pic>
      <p:sp>
        <p:nvSpPr>
          <p:cNvPr id="331" name="AutoShape 6"/>
          <p:cNvSpPr/>
          <p:nvPr/>
        </p:nvSpPr>
        <p:spPr>
          <a:xfrm>
            <a:off x="3951360" y="4695840"/>
            <a:ext cx="900000" cy="447840"/>
          </a:xfrm>
          <a:prstGeom prst="rightArrow">
            <a:avLst>
              <a:gd name="adj1" fmla="val 50000"/>
              <a:gd name="adj2" fmla="val 50241"/>
            </a:avLst>
          </a:prstGeom>
          <a:solidFill>
            <a:srgbClr val="000066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24000" y="581040"/>
            <a:ext cx="8480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Nanosized Inorganic Clust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6597720"/>
            <a:ext cx="836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Graph adapted from http://www.aims.gov.au/pages/research/projects/sunscreens/pages/sunscreens02.html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222120" y="1652760"/>
            <a:ext cx="812484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aximum scattering occurs for wavelengths twice as large as the cluster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Make the clusters smaller (100 nm or less) and they won’t scatter visible lig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263880" indent="-2638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174600" y="3262320"/>
            <a:ext cx="4662360" cy="15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337" name="Picture 6" descr="ScatteringComparison"/>
          <p:cNvPicPr/>
          <p:nvPr/>
        </p:nvPicPr>
        <p:blipFill>
          <a:blip r:embed="rId1"/>
          <a:stretch/>
        </p:blipFill>
        <p:spPr>
          <a:xfrm>
            <a:off x="1914480" y="3354480"/>
            <a:ext cx="50547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y Use Sunscreen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06240" y="1612800"/>
            <a:ext cx="627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oo much unprotected sun exposure leads to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emature skin aging (e.g. wrinkles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unburn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-12600" y="6591240"/>
            <a:ext cx="8813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oasishospital.org/previousnews.html; http://wohba.com/archive/2005_03_01_archive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2" name="Picture 9" descr="skin pic sunburn"/>
          <p:cNvPicPr/>
          <p:nvPr/>
        </p:nvPicPr>
        <p:blipFill>
          <a:blip r:embed="rId1"/>
          <a:stretch/>
        </p:blipFill>
        <p:spPr>
          <a:xfrm>
            <a:off x="279360" y="1471680"/>
            <a:ext cx="1806480" cy="4959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georgehamilton"/>
          <p:cNvPicPr/>
          <p:nvPr/>
        </p:nvPicPr>
        <p:blipFill>
          <a:blip r:embed="rId2"/>
          <a:stretch/>
        </p:blipFill>
        <p:spPr>
          <a:xfrm>
            <a:off x="5162400" y="3608280"/>
            <a:ext cx="222264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66"/>
                </a:solidFill>
                <a:latin typeface="Tahoma"/>
              </a:rPr>
              <a:t>Nano-Sunscreen Appears Clear</a:t>
            </a:r>
            <a:endParaRPr b="1" lang="en-US" sz="36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4600" y="177804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cience.org.au/sats2003/images/barber-slide3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  <p:grpSp>
        <p:nvGrpSpPr>
          <p:cNvPr id="342" name="Group 5"/>
          <p:cNvGrpSpPr/>
          <p:nvPr/>
        </p:nvGrpSpPr>
        <p:grpSpPr>
          <a:xfrm>
            <a:off x="4332240" y="1900080"/>
            <a:ext cx="4443120" cy="3844800"/>
            <a:chOff x="4332240" y="1900080"/>
            <a:chExt cx="4443120" cy="3844800"/>
          </a:xfrm>
        </p:grpSpPr>
        <p:pic>
          <p:nvPicPr>
            <p:cNvPr id="343" name="Picture 6" descr="HalfFaceFromBarberSlide"/>
            <p:cNvPicPr/>
            <p:nvPr/>
          </p:nvPicPr>
          <p:blipFill>
            <a:blip r:embed="rId1"/>
            <a:stretch/>
          </p:blipFill>
          <p:spPr>
            <a:xfrm>
              <a:off x="4870080" y="2496240"/>
              <a:ext cx="3435480" cy="32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7"/>
            <p:cNvSpPr/>
            <p:nvPr/>
          </p:nvSpPr>
          <p:spPr>
            <a:xfrm>
              <a:off x="4332240" y="1900080"/>
              <a:ext cx="160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anosized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5" name="Text Box 8"/>
            <p:cNvSpPr/>
            <p:nvPr/>
          </p:nvSpPr>
          <p:spPr>
            <a:xfrm>
              <a:off x="7290720" y="1900080"/>
              <a:ext cx="148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rge ZnO particles</a:t>
              </a: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6" name="Line 9"/>
            <p:cNvSpPr/>
            <p:nvPr/>
          </p:nvSpPr>
          <p:spPr>
            <a:xfrm>
              <a:off x="5179680" y="2526120"/>
              <a:ext cx="835200" cy="99576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  <p:sp>
          <p:nvSpPr>
            <p:cNvPr id="347" name="Line 10"/>
            <p:cNvSpPr/>
            <p:nvPr/>
          </p:nvSpPr>
          <p:spPr>
            <a:xfrm flipH="1">
              <a:off x="7126560" y="2500200"/>
              <a:ext cx="869040" cy="10321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66"/>
                </a:solidFill>
                <a:latin typeface="Arial"/>
              </a:endParaRPr>
            </a:p>
          </p:txBody>
        </p:sp>
      </p:grpSp>
      <p:pic>
        <p:nvPicPr>
          <p:cNvPr id="348" name="Picture 11" descr="SunscreenNano"/>
          <p:cNvPicPr/>
          <p:nvPr/>
        </p:nvPicPr>
        <p:blipFill>
          <a:blip r:embed="rId2"/>
          <a:stretch/>
        </p:blipFill>
        <p:spPr>
          <a:xfrm>
            <a:off x="633240" y="2546280"/>
            <a:ext cx="3638880" cy="31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et’s Look at Some Real Data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2160" y="1665360"/>
            <a:ext cx="8157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ree sunscreens were tested for scattering with different wavelengths of light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nanosized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traditional inorganic ingredients 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One contains organic ingredients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29480" indent="-4294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n you answer these three questions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ich one is which and how do you know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ill each one appear white or clear on your ski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859320" indent="-42948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What size (approximately) are the clusters in each sunscreen?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Light Scattering by Three Sunscreen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graphicFrame>
        <p:nvGraphicFramePr>
          <p:cNvPr id="354" name="Object 3"/>
          <p:cNvGraphicFramePr/>
          <p:nvPr/>
        </p:nvGraphicFramePr>
        <p:xfrm>
          <a:off x="501480" y="1479600"/>
          <a:ext cx="7583760" cy="53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1479600"/>
                    <a:ext cx="7583760" cy="53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In Summary…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Nanoparticle sunscreen ingredients are small inorganic clusters that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Provide good UV protection by absorbing both UVB and UVA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Appear clear on our skin because they are too small to scatter visible light</a:t>
            </a:r>
            <a:endParaRPr b="0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359" name="Picture 4" descr="PoolGirl"/>
          <p:cNvPicPr/>
          <p:nvPr/>
        </p:nvPicPr>
        <p:blipFill>
          <a:blip r:embed="rId1"/>
          <a:stretch/>
        </p:blipFill>
        <p:spPr>
          <a:xfrm>
            <a:off x="3309840" y="4146480"/>
            <a:ext cx="2357640" cy="2357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-28440" y="6583320"/>
            <a:ext cx="858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6666"/>
                </a:solidFill>
                <a:latin typeface="Arial"/>
              </a:rPr>
              <a:t>Source: http://www.smalltimes.com/images/st_advancednanotech_inside_.jpg</a:t>
            </a:r>
            <a:endParaRPr b="0" lang="en-US" sz="11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Essential Questions: Time for Answers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What are the most important factors to consider in choosing a sunscreen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you know if a sunscreen has “nano” ingredient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ow do “nano” sunscreen ingredients differ from other ingredients currently used in sunscreens?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05" name="Picture 11" descr="TanningBooth"/>
          <p:cNvPicPr/>
          <p:nvPr/>
        </p:nvPicPr>
        <p:blipFill>
          <a:blip r:embed="rId1"/>
          <a:stretch/>
        </p:blipFill>
        <p:spPr>
          <a:xfrm>
            <a:off x="5362560" y="4714920"/>
            <a:ext cx="283860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ancerRatesGraphOnly"/>
          <p:cNvPicPr/>
          <p:nvPr/>
        </p:nvPicPr>
        <p:blipFill>
          <a:blip r:embed="rId2"/>
          <a:stretch/>
        </p:blipFill>
        <p:spPr>
          <a:xfrm>
            <a:off x="503280" y="1589040"/>
            <a:ext cx="3527280" cy="30765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226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Skin Cancer Rates are Rising Fast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31960" y="1620360"/>
            <a:ext cx="3755880" cy="296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Skin cancer: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s ~50% of all cancer cas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Has &gt; 1 million cases diagnosed each yea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457200" indent="-45720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Causes 1 person to die every hour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43080" y="1549440"/>
            <a:ext cx="381924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Probability of getting skin cancer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1930 : 1 in 5,000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04 : 1 in 65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2050 : 1 in 10…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914400" indent="-457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596880" y="657864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http://www.skincarephysicians.com/skincancernet/whatis.html; http://www.msu.edu/~aslocum/sun/skincancer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596880" y="4673520"/>
            <a:ext cx="7794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Causes of the increase: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Decrease ozone protectio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time in the su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Increased use of tanning beds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-63360" y="6400800"/>
            <a:ext cx="915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s: http://www.msnbc.msn.com/id/8379291/site/newsweek/ ;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What are sun rays?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574280"/>
            <a:ext cx="795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The sun emits several kinds of electromagnetic radiation: Visible (Vis), Infrared (IR) and Ultra Violet (UV)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Each kind is distinguished by a characteristic wavelength, frequency and energy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Higher energy radiation can damage our ski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16" name="Picture 6" descr="SunEMSpectrumNoNums"/>
          <p:cNvPicPr/>
          <p:nvPr/>
        </p:nvPicPr>
        <p:blipFill>
          <a:blip r:embed="rId1"/>
          <a:stretch/>
        </p:blipFill>
        <p:spPr>
          <a:xfrm>
            <a:off x="2533680" y="2797200"/>
            <a:ext cx="42577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arpansa.gov.au/is_sunys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127960" y="491328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High Energy     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666666"/>
                </a:solidFill>
                <a:latin typeface="Arial"/>
              </a:rPr>
              <a:t>Low Energy</a:t>
            </a:r>
            <a:endParaRPr b="0" lang="en-US" sz="18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Дата 1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20" name="Picture 5" descr="0304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Дата 3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Full Electromagnetic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09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Visible, Infrared and UV radiation are only part of the full spectrum of electromagnetic radiation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pic>
        <p:nvPicPr>
          <p:cNvPr id="124" name="Picture 3" descr="EMspectrum"/>
          <p:cNvPicPr/>
          <p:nvPr/>
        </p:nvPicPr>
        <p:blipFill>
          <a:blip r:embed="rId1"/>
          <a:stretch/>
        </p:blipFill>
        <p:spPr>
          <a:xfrm>
            <a:off x="635040" y="2511360"/>
            <a:ext cx="7391520" cy="48769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4360" y="6570720"/>
            <a:ext cx="624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http://www.mhhe.com/physsci/astronomy/arny/instructor/graphics/ch03/0305.html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Дата 5"/>
          <p:cNvSpPr/>
          <p:nvPr/>
        </p:nvSpPr>
        <p:spPr>
          <a:xfrm>
            <a:off x="8483760" y="279360"/>
            <a:ext cx="5698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3366cc"/>
                </a:solidFill>
                <a:latin typeface="Verdana"/>
              </a:rPr>
              <a:t>44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0992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66"/>
                </a:solidFill>
                <a:latin typeface="Tahoma"/>
              </a:rPr>
              <a:t>The Sun’s Radiation Spectrum</a:t>
            </a:r>
            <a:endParaRPr b="1" lang="en-US" sz="32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87800" y="2435040"/>
            <a:ext cx="3797280" cy="36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3% is in the visible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49% is in the near infrared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~ 7% is in the ultraviolet range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66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Tahoma"/>
              </a:rPr>
              <a:t>&lt; 1% is x-rays, gamma waves, and radio waves</a:t>
            </a:r>
            <a:endParaRPr b="1" lang="en-US" sz="2400" spc="-1" strike="noStrike">
              <a:solidFill>
                <a:srgbClr val="666666"/>
              </a:solidFill>
              <a:latin typeface="Tahom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639880" y="4900680"/>
            <a:ext cx="490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79360" y="16588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66"/>
                </a:solidFill>
                <a:latin typeface="Tahoma"/>
              </a:rPr>
              <a:t>Most of the sun’s radiation is UV, Vis &amp; IR :  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6583320"/>
            <a:ext cx="665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6666"/>
                </a:solidFill>
                <a:latin typeface="Arial"/>
              </a:rPr>
              <a:t>Source: Adapted from http://www.ucar.edu/learn/imgcat.htm</a:t>
            </a:r>
            <a:endParaRPr b="0" lang="en-US" sz="1200" spc="-1" strike="noStrike">
              <a:solidFill>
                <a:srgbClr val="666666"/>
              </a:solidFill>
              <a:latin typeface="Arial"/>
            </a:endParaRPr>
          </a:p>
        </p:txBody>
      </p:sp>
      <p:pic>
        <p:nvPicPr>
          <p:cNvPr id="132" name="Picture 7" descr="SunEMSpectrumModifiedAll"/>
          <p:cNvPicPr/>
          <p:nvPr/>
        </p:nvPicPr>
        <p:blipFill>
          <a:blip r:embed="rId1"/>
          <a:stretch/>
        </p:blipFill>
        <p:spPr>
          <a:xfrm>
            <a:off x="349200" y="2425680"/>
            <a:ext cx="4584600" cy="340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21:29:49Z</dcterms:created>
  <dc:creator>lptheis</dc:creator>
  <dc:description/>
  <dc:language>en-US</dc:language>
  <cp:lastModifiedBy>LEGION</cp:lastModifiedBy>
  <cp:lastPrinted>2006-06-27T22:36:16Z</cp:lastPrinted>
  <dcterms:modified xsi:type="dcterms:W3CDTF">2018-03-12T09:31:25Z</dcterms:modified>
  <cp:revision>56</cp:revision>
  <dc:subject/>
  <dc:title>Slide 1</dc:title>
</cp:coreProperties>
</file>